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5034-052D-4A5C-977D-CBD4612E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E6A9-1A97-4C46-A924-B49EEDDE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8BEF-2449-4642-ACAA-FAF718EC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222A-3D18-45A8-8C9E-4947194C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C489-2FC1-4955-8800-F76CCEFA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5640-CEF9-43C3-B105-BA92655A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4E3E-4F0B-412D-8F23-94A47487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5939-8F11-443A-B36A-399900B0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0129-FA22-406C-B09A-7EF36439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9EE7-D41E-4402-915A-3198EEDC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627B-7DA3-4B83-A855-BE58452A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F95B-7781-4E05-BFB7-4D77D784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06EB-8B32-4F37-8FC2-BE4D8902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0D2C-97DC-402B-AD1D-FB4A1492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C1CE-BEE4-4DDE-B8E4-FC20C458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6979-87AF-4878-BAE1-921FA0B0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6FCD-BFD7-47C9-8B6A-DCD56FF6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3A06-4A7D-4849-8382-B8A11BA8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258-5C50-4411-8B44-ECB2659C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299E-FA97-4369-B33C-90F77AAC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8A7-7872-40F9-9346-AD552F06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EB8-9979-43C6-9BAA-4E119D4D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6CB6-8F75-4462-BC62-FAF72D1D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1472-5523-4578-9729-F00EDA26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F8B7-5284-483C-B15E-F73B324E57B9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B108-1C82-44B4-BAA9-5340771F10C6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sarist Russ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ctures by Sergei Mikhailovich Prokudin-Gorskii , taken fro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c8ff"/>
                </a:solidFill>
                <a:uFillTx/>
                <a:latin typeface="Tahoma"/>
              </a:rPr>
              <a:t>http://www.loc.</a:t>
            </a:r>
            <a:r>
              <a:rPr b="0" lang="en-US" sz="2800" spc="-1" strike="noStrike" u="sng">
                <a:solidFill>
                  <a:srgbClr val="65c8ff"/>
                </a:solidFill>
                <a:uFillTx/>
                <a:latin typeface="Tahoma"/>
              </a:rPr>
              <a:t>gov/exhibits/empire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88880" y="0"/>
            <a:ext cx="8164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620640" y="0"/>
            <a:ext cx="7900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892080" y="0"/>
            <a:ext cx="73580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603360" y="0"/>
            <a:ext cx="79372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69800" y="0"/>
            <a:ext cx="82026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528480" y="0"/>
            <a:ext cx="80870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47560" y="0"/>
            <a:ext cx="80488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74640" y="0"/>
            <a:ext cx="7792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26880" y="0"/>
            <a:ext cx="8488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28480" y="0"/>
            <a:ext cx="80870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was Tsarist Russia lik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Picture 1: Agricultural, simple equipment - no sign of technolo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620640" y="0"/>
            <a:ext cx="7900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811080" y="0"/>
            <a:ext cx="75200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00080"/>
            <a:ext cx="9144000" cy="665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620640" y="0"/>
            <a:ext cx="7900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44480" y="0"/>
            <a:ext cx="76532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pairs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828800"/>
            <a:ext cx="7924680" cy="41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k 4 pictures that you think are especially interesting/fascin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 and paste the slides into a new power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otate each one with what you can tell about Tsarist Russia from the pi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ly create an end slide that answers the ques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What might some of the problems be with using these pictures as evide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can we learn from these pictures about the Russian people/Russia societ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might some of the problems be with using these pictures as evidenc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14680" y="0"/>
            <a:ext cx="5715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-685800" y="26668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430200" y="0"/>
            <a:ext cx="8282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39720" y="0"/>
            <a:ext cx="78645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603360" y="0"/>
            <a:ext cx="79372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674640" y="0"/>
            <a:ext cx="7792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7-09-03T02:26:15Z</dcterms:modified>
  <cp:revision>4</cp:revision>
  <dc:subject/>
  <dc:title>Tsarist Russia</dc:title>
</cp:coreProperties>
</file>